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7123-90CB-4944-A3DE-45CD386D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8592-CC42-4A99-A408-E7E75FB2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BD3E-5D99-400C-AB0E-27C37769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5227-3000-4040-8280-0D5C4374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08A7-FEA6-408A-BC18-98BE3E7F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BCB5-8F93-44A5-B9B4-819D91AC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F365-FE2D-4D1C-A4D9-5ECB323A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EF67-CF68-4FE7-8F10-79834E37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BB11-D9E8-4397-856E-02EB7270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3ECF-E6A3-417F-80B1-74BACE74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196A-2AE1-4D17-8266-3A706C96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ED25-7CE6-4ED3-BEF3-00B6AEFC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A4D5-AB9A-46F5-A6F9-DFF64F5B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3AFC-E342-4772-840B-C779A823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450B-76B9-4E67-A74C-A578A683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E069-23E9-4CAB-9EC5-6E290E4D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508D-BB68-4293-A061-664EAAFD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296E-2A13-4CED-833A-B9C7436F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857-8B69-4094-B6A7-7A3F0356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C3E2-A6FF-442A-A483-98AFF0A2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0CD4-AC12-405E-8F98-354BD6A1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8132-F5C5-4D90-94D1-75AA9086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054-43F2-4788-A037-AF5FCEBA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152-90A8-4158-A93C-2E92DD94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8B00-C9CA-424F-9862-B2DFAFAEC2C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EFB5-637F-49B5-B039-8ED420C5D6D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944e"/>
                </a:solidFill>
                <a:latin typeface="Arial"/>
              </a:rPr>
              <a:t>Mi Cas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0512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4944e"/>
                </a:solidFill>
                <a:latin typeface="Arial"/>
              </a:rPr>
              <a:t>Por Allie Chrisafidei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666880" y="3505320"/>
            <a:ext cx="4496040" cy="2792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620120" y="685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474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8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 garaj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 mi garaje. Es fabuloso, nuevo, y impresionante. No es Pequeño y vieg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770280" cy="280800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 Cas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 casa es una casa. Mi Casa es peque</a:t>
            </a:r>
            <a:r>
              <a:rPr b="0" lang="en" sz="2400" spc="-1" strike="noStrike">
                <a:solidFill>
                  <a:srgbClr val="003366"/>
                </a:solidFill>
                <a:latin typeface="Arial"/>
              </a:rPr>
              <a:t>ñ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y magnific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22520" y="3803760"/>
            <a:ext cx="3774960" cy="221760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 coci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4800240"/>
            <a:ext cx="76932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s una cocin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¡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 cocina es antiguio, bonito, y fabuloso! No es feo y pequeñ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3657600" cy="262260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 comed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 un comedor. Es muy bello, bonito, y viejo. No es moderno y grand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5000">
    <p:newsflash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 sa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 una sala. Mi sala es moderna, magnifo, y fabulos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81080" y="3733920"/>
            <a:ext cx="5486400" cy="266688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 bañ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¡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 Mi baño! Es grande, moderno, y bello. No es viego y pequeñ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2538360"/>
            <a:ext cx="3770280" cy="337176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5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 cuar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 un cuarto!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¡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 moderno, lujoso, grande, y fabuloso! No es antiguo, viego, y pequeño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 pat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¡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 mi patio! Es muy impresionante, estupendo, y bonit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962160" cy="263700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 jard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 mi jardin. Es grande, bello, y lujos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3452760" cy="350496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68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68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13:30Z</dcterms:created>
  <dc:creator>chrisafideisale</dc:creator>
  <dc:description/>
  <dc:language>en-US</dc:language>
  <cp:lastModifiedBy>chrisafideisale</cp:lastModifiedBy>
  <dcterms:modified xsi:type="dcterms:W3CDTF">2013-04-04T15:50:46Z</dcterms:modified>
  <cp:revision>7</cp:revision>
  <dc:subject/>
  <dc:title>Mi Casa</dc:title>
</cp:coreProperties>
</file>